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1464-6A51-46E2-84E5-7BF7D6A2AB4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CE3A-C2E6-41CC-BEF1-2A6C2A2F8A7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21A7-1F0D-4900-A144-33D3DC352A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F0E3-0624-41FA-960C-D92D45B3F5B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2EDA-D2E5-4244-B307-09217C9CB4D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8758-37C6-49F0-B4ED-469558ACCE5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77AC-8B90-4CC4-9EF1-1D59E40708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4A96-110A-425E-84BE-7D8EA41B5E8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4891-04FA-4702-8C66-17DA58CEB5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8F42-A8A7-4A8E-AD94-029F829EFEB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CEC6-F7A0-4F8E-91F6-C7B6C7C0253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0335-4951-4925-84BF-0DBD2EFDE7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AAA8-8BE6-4F45-AEF3-707AD206115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CA55-2BB8-4ABC-9BBD-9FA54B4D2B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770D-A278-4D7F-85F4-E1D944AE388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9730-E95B-4779-BC5D-BB9FB135090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3873-45A3-45FB-BE60-B8D2E57DFCC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710A-C320-4C3A-A189-A9F6DF77716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B014-90B7-42BE-BD36-5A210CE2C14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D823-AF84-4BBA-A4BC-C17AA424F69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025E-7F6A-4734-9FB8-AA6496B6FC1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2756-55F3-462E-8EEB-3ACCC658637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C22D-AFBA-40FA-8797-D79D32F5767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DE72-2A16-456F-A520-EB757BF0C6A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5998-9D31-4092-A520-7BEE558A9F7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15FE-6A5B-4711-A80A-93A9E702517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648D-972D-46FD-86C6-19F4CAC08C6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3DAE-A496-471D-8215-405A37878F9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2340-7126-4E33-AB5E-CEAF76EA7E8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D87E-B6F9-4659-913D-8FFA3309B16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CDFE-A7EC-47FF-BAAE-B9C47AB19E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E4A9-CB3F-4E9D-ADE9-556B5FC92A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59E0-F128-4C1F-9FBB-6DE4907E362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6B39-3BED-4BBA-8F90-AF79FB38C36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10BB-E1F2-4ABE-89BD-87D05F7DDA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B28C-FC3E-43C0-920C-1DD4207257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8822-D00B-4759-8DF5-196A36875E6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1A10-1E7B-435A-9EBC-CF2976AE25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D96D-0AC7-4B9B-BE66-C2E87DAADFF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CAE-7DAD-4A9D-9A62-9FEACA42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F0A-7D39-49D9-95C2-F0FD67BE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159-1769-4EB8-89A9-960E6781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0D7-8EBE-4DAF-8119-ACE1C285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3AFD-49B6-4B14-A8CD-22FBFE6D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F6C-9DB7-4311-923D-2DEF7CFF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3855-1D7C-4FAF-8035-F536BBE8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9C67-DF1C-4D64-BDC9-FF985B50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028E-8982-4FBB-966A-7FB32D6A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B9B0-432B-4CAE-B17C-09699E54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E81E-4E93-4723-B031-91E07DB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8D8-629D-41B1-8813-82F281A2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7DEC-C123-4F4C-B4BA-4655A2D8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16B2-EDB9-4907-B368-DF0731D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AB95-8F28-48F6-917B-7030DD1D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0A15-CAC2-4DF7-A8D6-0C78609D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9385-66F1-483F-921F-71B80758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2C696-18FE-4D17-AC2E-37F43234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9F73-CFC3-4554-B0F4-2D49B74D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76FF-D58A-4BDD-BC8C-8F1A23EC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6C4AF-AB51-45D6-91C9-B947709E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7E5D-C98F-429D-A72C-65995C4F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022-4E1C-4F59-8CF1-297D07E2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F999-A60F-46EA-A556-9D79B0C4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1EBB-B3EB-48AF-9242-5729C50B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A759-42ED-41AF-A08C-AA9BA75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EB25-D8A3-421C-B9D0-B316E89E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521C-A1EF-4F6A-9D27-8FF63C03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61FA-458C-428E-9623-53C25EB9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D39C-AAE5-4642-9150-839BF51C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C1A7-2273-4AAD-8C8C-6AC0352A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F230-FE5D-458C-89DD-033DFC7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7C717-9EC5-4B0D-873A-E4DD1658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CEA-A7F5-4228-8152-2347B434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233D-270D-427A-BABA-11C40E0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D2F0E-C19E-45CF-9BE4-8663FEB0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D33A5-2BD7-4E14-80F1-59275827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07BE-FEC8-443C-8BF2-AD342F5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6B24-05F1-4063-BE0E-7FDD7243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F792-42F2-4B2A-8E47-DC714290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1665-F5C8-46D6-82FC-15D33851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7687F-052C-4A99-A9EA-FB172598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67397-4692-4725-81A3-4CC509D5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F01A-8DC9-42C2-B383-346FCEF4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435-8EC1-4C87-85F8-AC4280E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E9EC-DD2C-4863-BA04-3C81D29D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BE0A9-AF99-4DE0-AD9D-CC7E6D7E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08301-F705-4227-9BAC-D6077A28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AB314-FC61-4E69-957C-DA1E4B70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5D5F-8375-42E2-B74D-1E228567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322C-FE2A-4E87-9C58-30118B7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A36E-7796-40F5-8C6B-9ABB877B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72F9D-9F8F-42C8-880F-6214C4A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66CA3-4FB7-425B-824C-D07C2FF5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22143-320A-4EE7-8399-231947EF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678-D6F3-4FA3-9B9E-D912F35F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96D95-B0C0-4159-806F-1DDF9E52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58A1-FC98-4D9A-9B05-83938548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7E42-9D05-464F-8DEB-F0556C5C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D051B-2578-4962-B122-C1897307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71B50-977A-4CFE-B830-838322A2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E1D8-B68F-419A-A60A-0B22560C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B9C74-3D6E-4F1D-8D31-B262DAF8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F82EB-70CD-4983-85D3-D58CA76F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86E12-057E-48B5-A812-435DDF3C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D5275-EBFB-47E8-885A-D7DA687C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439-B88C-40AE-A2B9-68D6BB54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37660-18AF-4320-B2D2-A624C1E9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291AA-4E3A-4D35-98E3-C1B06695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5891-415A-4F21-BEC7-79663CFA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74902-25F5-43C2-BA06-C658B74C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AB5EB-1E89-4511-BDD8-B9E8B29D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EE19B-97BB-4973-AD76-395C91A2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2959E-EDC2-4F4F-B402-809E269C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7016B-F339-4BFE-8F0E-B3294604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410CA-AA5C-4FAC-8A7B-44B7BB46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2C45D-B198-47D5-9E6F-201D2E6A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739-9FE1-4260-BD74-7F4A862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1EC24-EF55-4BF7-9F28-7803BC8B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B86C-ABBA-43ED-A8A9-EC390EE0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436F8-0DE7-41DB-A233-636DC3E4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9CBE7-D2D9-444F-94E0-31531BEC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4E265-774A-4A0A-A895-87968128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9AF84-BCF3-4D40-86F5-FFE61DCF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E1E1A-58F7-43BF-AA18-3760942F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48164-EF33-418E-9AC6-6505BEE8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8C1A-C1C3-40FF-9691-5AC0907C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7B124-9E93-4F33-A1EC-BB5C4883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08F-C376-4E41-AE68-B35A29A9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DDF33-EC07-4B9A-BF70-EEF14A21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70855-65A3-42F6-8070-F435083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3F049-AF2E-47AB-AECB-CA59AA9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75E2D-4D93-44D1-B74C-3BCF149A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ED52D-3D23-4D2D-B679-E8E6B83B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B877A-3090-43FB-986C-F693F55E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EB40A-B6A5-44C5-9274-F513077C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73F-5526-4727-A40F-9DCFC20FF91B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766C-A05B-403A-8278-5B8F43739D62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0C24-12D8-4256-BC2F-5F4591C954D1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02AD-0368-4ECA-BE3A-9DE38B632907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BC43-0DC8-45F4-88E0-93086397FB48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21B3-AB2E-48EA-A0E3-BF5BFEA7AE9F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E3CE-C423-433E-9DFF-CC2ED5278A86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9FD-055B-4612-B858-48DD51594563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99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Modus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najčešća vrijednost koja se pojavljuje u jednom setu brojeva. Npr. ako je set brojeva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4,6,1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9,3,4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2,3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9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,8,4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3,4,7,8,9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Onda je modus = 8, dakle, broj koji se najviše puta pojavio u niz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zavisnosti od prirode podataka modus može biti manje ili više korisna mjera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U našem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u da u uzorku ima najviše ispitanika koji imaju 21 godinu, taj podatkak nam i ne govori mnogo. Međut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 ako pogledamo grafik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tićemo da je distribucija neravno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na upravo u ovom sektoru, tačnije kod mlađe kategorije ispitan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istraživanjima se ne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tko koriste likertove l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stvice proc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ne koje imaju v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npr.: veome dobro, dobro, loše i veoma loš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tostepena skala: „uopšte se ne slažem”, „ne slažem se”, „nemam mišljenje”, „slažem se”, „potpuno se slažem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ovakvim situacijama modus nam daje vredniju informaciju u poređenju sa aritmetičkom sredinom i medijanom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Zašt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Mjere centralne tendencije samo parcijalno opisuju podatke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Mjere varijablinosti su nužne za potpuni opis neke varijab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Varijabilnost je sastvani dio distribuci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Centralna tendencija uz mjere varijabilnosti nam pomaže da vizualizujemo oblik jedne distribucij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41520" y="1371600"/>
            <a:ext cx="7511760" cy="4533840"/>
          </a:xfrm>
          <a:prstGeom prst="rect">
            <a:avLst/>
          </a:prstGeom>
          <a:ln w="0">
            <a:noFill/>
          </a:ln>
        </p:spPr>
      </p:pic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523880" y="1601640"/>
            <a:ext cx="6391440" cy="3875400"/>
          </a:xfrm>
          <a:prstGeom prst="rect">
            <a:avLst/>
          </a:prstGeom>
          <a:ln w="0">
            <a:noFill/>
          </a:ln>
        </p:spPr>
      </p:pic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225360" y="128520"/>
            <a:ext cx="8467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748040" cy="4422960"/>
          </a:xfrm>
          <a:prstGeom prst="rect">
            <a:avLst/>
          </a:prstGeom>
          <a:ln w="0">
            <a:noFill/>
          </a:ln>
        </p:spPr>
      </p:pic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1981080" y="16765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čne distribucije nakrivljene u des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2,2,3,3,3,4,4,5,5,5,8,9,10,11,12,13,1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je (4+5)/2=4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119/20=5.9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504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2362320" y="2562120"/>
            <a:ext cx="4267080" cy="3679920"/>
          </a:xfrm>
          <a:prstGeom prst="rect">
            <a:avLst/>
          </a:prstGeom>
          <a:ln w="0">
            <a:noFill/>
          </a:ln>
        </p:spPr>
      </p:pic>
      <p:pic>
        <p:nvPicPr>
          <p:cNvPr id="414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2209680" y="19051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čne distribucije nakrivljene u lij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3,4,5,5,8,8,8,8,9,9,9,9,9,10,10,11,11,1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8+8)/2=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= 151/20 = 7.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0948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ŠTA MORAMO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AVLADATI</a:t>
            </a: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re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ocjenu i značaj distribu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506124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3,3,3,4,4,4,5,5,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3+4)/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42/1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 predstavlja onaj tip distribucije u kojem se vrh distribucije poklapa sa aritmetičkom sredinom distribucije (grafikon 5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Ovaj tip distribucije ima oblik ‘zvona’ pa se često upravo ovaj figurativan naziv koristi za normalnu distribucij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, kao koncept, igra veoma važnu ulogu u statistici, naime, veliki broj statističkih testova počiva na pretpostavci da su vrijednosti normalno distribuira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Asimetrična distribucija je onaj tip distribucije u kome se aritmetička sredina ne poklapa sa vrhom distribucij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Distribucija može biti asimetrična u dva smjera: prvo, ona može biti iskrivljena u desno (grafikon 3) i ona može biti iskrivljena u lijevo (grafikon 4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Najgori mogući slučaj asimetrične distribucije jeste ukoliko je ona nakrivljena istovremeno i u lijevo i u desno - ona ima dva vrh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ada imamo slučaj izrazito asimetrične distribucije, onda nam to govori da mi u okviru populacije imamo dve kategorije (kohorte), koje se suštinski razlikuju po datoj karakteristici . Odvojena analiza.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31280" cy="5278680"/>
          </a:xfrm>
          <a:prstGeom prst="rect">
            <a:avLst/>
          </a:prstGeom>
          <a:ln w="0">
            <a:noFill/>
          </a:ln>
        </p:spPr>
      </p:pic>
      <p:pic>
        <p:nvPicPr>
          <p:cNvPr id="427" name="Title 1" descr=""/>
          <p:cNvPicPr/>
          <p:nvPr/>
        </p:nvPicPr>
        <p:blipFill>
          <a:blip r:embed="rId2"/>
          <a:stretch/>
        </p:blipFill>
        <p:spPr>
          <a:xfrm>
            <a:off x="281160" y="201600"/>
            <a:ext cx="8412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parametar koji pokazuje da li je distribucija asimetrična ulijevo ili udes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Treći momenat distribuci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jednak 0 ako je distribucija simetrična, a u suprotnom imaće vrijednost drugačiju od 0 sa predznakom koji je identičan kao i asimetr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ga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to znači da je distribucija nakošena ulijevo, tj. u tom slučaju veća je frekvencija natprosječnih vrijednost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zi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onda je distribucija nakošena udesno, i to znači da je frekvencija vrijednosti u korist ispodprosječnih vrijedn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31840" y="225360"/>
            <a:ext cx="88758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je parametar koji pruža informaciju o rasprostranjenosti distribucije po y osi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zapravo govori o tome u kojoj mjeri su vrijednosti koncentrisane oko aritmetičke sredine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Grafikon 2 pokazuje različite mogućnosti distribucije koje su normalne, spljoštene ili zaoštren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Četvrti momenat distribucije i ima vrijednost 3 za normalnu distribuciju (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lt; 3 distribucija je za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šiljenija od normalne ,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gt; 3 distribucija je spl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o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štenija od normaln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Takođe, od vrijednosti koju smo dobili možemo oduzeti  3 tako da idealna distribucija ima kurtosis = 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U tom slučaju, spljoštene distribucije imaju negativnu (-) vrijednost a zašiljene pozitivnu (+) vrijednost kurtosis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345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457200" y="1481040"/>
          <a:ext cx="8229600" cy="3606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-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7.6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3.0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1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.3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41.5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4.07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6.4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.6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9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7.4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2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7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6.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.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.3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2.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6.6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4.7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7,08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28600" y="148104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7.025  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2.576 </a:t>
            </a:r>
            <a:r>
              <a:rPr b="0" lang="el-GR" sz="26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1.60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3=-24.7244/40=-0.618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4=597.0845/40=14.927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0.6181/4.134=-0.15   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ak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ena ulijev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 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14.9271/6.636= 2.25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plj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tenija od normaln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ko oduzmemo 3 od rezultata  kurtosisa dobijamo                 – 0.75 (negativna vrijednost zna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 sp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ljoštenu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distribuciju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45720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U statistici postoje numeričke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linosti imaju za cilj da numerički precizno ukažu u kojoj mjeri distribucija vrijednosti odstupa od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63480" y="1523880"/>
            <a:ext cx="7794720" cy="44276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psolutna mjera disperzij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pseg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Range) je najjednostavnija 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a varijabilnosti i on odgovara razlici između najveće(max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 najmanje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min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z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e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u nizu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našem gornjem pri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u u kojima smo dali prikaz dstribucije godina ispitanika Opseg = 90–18= 72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POMENA: Range je jedna od mjera varijabilnosti koja je sasvim nedostatna, naime, u okviru opsega (max-min) moguće su sasvim različite distribucije vrij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700" spc="-1" strike="noStrike">
                <a:solidFill>
                  <a:srgbClr val="000000"/>
                </a:solidFill>
                <a:latin typeface="Lucida Sans Unicode"/>
              </a:rPr>
              <a:t>Standardna devijacija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 jedna od ključnih mjera varijabilnosti koja ukazuje u kojoj su mjeri vrijednosti udaljene od aritmetičke sredin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Da bi izračunali standardu devijaciju nužno je prvo izračunati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varijan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Varijansa se izračunava po sledećoj formul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00756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/>
          <p:cNvSpPr/>
          <p:nvPr/>
        </p:nvSpPr>
        <p:spPr>
          <a:xfrm>
            <a:off x="380880" y="419112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Na osnovu varijanse se izračunava standardna devijacija, a ona predstavlja pozitivni kvadratni korijen varijan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2549520" cy="6098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557640" y="5943600"/>
            <a:ext cx="435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ema tome u našem primjeru SD 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4952880" y="5867280"/>
            <a:ext cx="2711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varij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σ/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liki je udio odstupanja u aritmeti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j sredi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58/3=0.526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ko se radi o cijenama, kakav bi bio komenta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Standardna devijacija uz aritmetičku sredinu nam pruža veoma korisne informacij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Ključna uloga standardne devijacije jeste da se na osnovu nje formiraju intervali povjerenj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4262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533520" y="144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kle, aritmetička sredina starosti naših ispitanika je 44,28, a standardna devijacija je 16,82. Slijedi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558280" cy="11588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8205840" cy="16765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533520" y="4191120"/>
            <a:ext cx="8153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Promptni zaključak: Distribucija je asimetrična i to udesno, naime, sa +/-dve standardne devijacije mi smo potpuno iscrp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li nis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mlađi, dok još uvek nismo obuhvatili viso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tariji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04920" y="1981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Ukoliko je distribucija normaln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68% vrijednosti će biti obuhvaćene +/-1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5% vrijednosti će biti obuhvaćene +/-2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9,7% vrijednosti će biti obuhvaćene +/-3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7724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su pro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a primanja u Crnoj Gori 300 EUR sa standardnom devijacijom 130 EUR. To znači da oko 68%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pulacije u Crnoj Gori ima primanja između 170 i 430 EUR i oko 95% populacije ima platu od 40 do 560 EUR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pro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an Crnogorac provede 3 sata pored televizora dnevno sa standardnom devijacijom od 1 sat, to znači da oko 68% populacije provodi pored TV-a između 2 i 4 sata i 95% populacije gleda TV između 1 i 5 sa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je prosječna ocjena na skali od 1-5 za X političara 3.0 sa standardnom devijacijom 1.5, to znači da ovog političara 68% populacije ocjenjuje ocjenom od 1.5 do 4.5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predstavljaju sumarne kumulativne pokazatelje distribucije iskazane relativnim frekvencijam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u suštini dijele ukupnu kumulativnu distribuciju u jednoj tački, te prema tome se distribucija dijeli na dva dijel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jčešći u upotrebi je tzv 50-ti percentil, koji ima vrijednost medijane. Kada je o njemu riječ, ukupna distribucija se dijeli na način da polovina slučajeva (objekata) ima vrijednosti ispod a polovina iznad medijan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upotrebi su takođe i 25-ti, 75-ti percentil, a nekada se koriste i 10-ti i 90-ti percenti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potreba je jednostavna, npr. ako je u našem prim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sa godinama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25-om percentilu =30, to znači da 25% populacije jeste mlađe od 30 godina. Budući da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75-og percentila 57,6, to znači da je 75% naših ispitanika mlađe od 57,6 g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a. Konsekventno, pošto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90-tom percentilu 68, proističe da je 90% naših ispitanika mlađe od 68 godin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Budući da 25-ti, 50-ti i 75-ti percentil d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i populaciju u četiri grupe, njih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kvartilima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 razliku između 75-tog i 25-tog,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terkvartilni opseg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IQR –interquartile rang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ključna svrha upotrebe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era centralne tendencije u društvenim naukam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tatistič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paramet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 -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sv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 jednog numeričkog niza (varijable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e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‘centriraju’ i iskazuju posredstvom određene (jedne) numeričk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Redukcioniz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ingularni numerički izra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46160" y="152280"/>
            <a:ext cx="84740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520" y="15235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‘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osjek’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kle, aritmetička sredina predstavlja pros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u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ekog kontinuiranog niza brojev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ruštv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e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nau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pros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karakteristike populacije ili uzork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Aritmetička sredina nekog seta kvantitativnih podataka (numeričkog niza) jeste suma svih vrijednosti podijeljena sa ukupnim brojem objekata od kojih se set podataka sastoji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4724280"/>
            <a:ext cx="2210040" cy="11462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533520" y="57913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apomena: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Simbo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 se koristi kada se označava aritmetička sredina uzorka, dok se simbol </a:t>
            </a:r>
            <a:r>
              <a:rPr b="0" i="1" lang="el-GR" sz="2000" spc="-1" strike="noStrike">
                <a:solidFill>
                  <a:srgbClr val="000000"/>
                </a:solidFill>
                <a:latin typeface="Lucida Sans Unicode"/>
              </a:rPr>
              <a:t>μ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koristi kada je reč o popul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3"/>
          <a:stretch/>
        </p:blipFill>
        <p:spPr>
          <a:xfrm>
            <a:off x="3048120" y="5562720"/>
            <a:ext cx="312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pr. Ako 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žemo da su ispitanici u našem uzorku stari u prosjeku 44,5 godina to znači 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va su ključna faktora od kojih zavisi preciznost ovog podatka (aritmetičke sredin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1. Od veličine uzork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2. Od varijabilnosti tj. opsega (rasprostranjenosti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699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edijana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akođe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ste neka vrsta pros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ije prosjek, v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ć samo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dnostavno ‘</a:t>
            </a:r>
            <a:r>
              <a:rPr b="0" i="1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edijana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Medijana nekog kvan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ativnog seta podataka jeste srednji broj u situaciji kada se sv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poređaju od najniže do najviše ili obrnut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koliko je niz brojeva neparan, onda je medijana broj u sredini. Ukoliko je broj paran, onda je medijana srednja vrijednost srednja dva broj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1. Ako se varijabla sastoji od 7 brojeva 5,7,4,5,20,6 i 2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2,4,5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6,7,20  M=5 (broj u sredini posmatrano s krajev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2. Ukoliko je pak varijabla sa parnim brojem brojeva (n=6) , npr. varijabla 4,5,5,6,7,20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,5,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7,20         M = (5+6)/2 = 5.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U nekim situacijama medijana je bolja mjera centralne tendencije u odnosu na aritmetičku sredinu. Zašto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eke varijable u društvenim istraživanjima su naročito pogodne za medijanu, npr. prihod iskazan u intervalnoj skali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rosjek zarada – aritmetička sredina ili medijana?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Medijana je, takođe, pogodna kada se koriste ljestvice procjene, a i zgodnija je za interpretaciju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467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9:30:32Z</dcterms:created>
  <dc:creator>Ana</dc:creator>
  <dc:description/>
  <dc:language>en-US</dc:language>
  <cp:lastModifiedBy>boris</cp:lastModifiedBy>
  <dcterms:modified xsi:type="dcterms:W3CDTF">2015-02-17T10:40:27Z</dcterms:modified>
  <cp:revision>82</cp:revision>
  <dc:subject/>
  <dc:title>DESKRIPTIVNA STATISTIKA II DEO</dc:title>
</cp:coreProperties>
</file>